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D74E-1817-47BD-91AF-7238C9E2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C370-0ED5-4B95-BE07-234462E3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03DF-56FA-43CA-8BE8-82329B25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3A8-D62B-4793-B3BB-A9AB902D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4C35-3B01-4FDC-A7E4-0E509A7A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57DC-377B-4503-813C-B7B2134D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2A1-6FDA-410D-AD4B-858F0919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4BD4-DD2C-4E29-94D3-FBF536FF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894-6354-45DA-9AA9-10E625B3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894-B842-430A-9CB0-A6B5866F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EDC-83DB-4BF9-8C56-941F9351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527-5D09-4C03-AB39-EC16CA70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6AAD-E1AF-4EA9-894F-92AB3DCD8736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Arial"/>
              </a:rPr>
              <a:t>O esgotamento dos recursos naturais como limite ao crescimen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odemos então concluir-se que independentemente do grau de desenvolvimento das sociedades, os modelos de crescimento com base na exploração dos recursos naturais provocaram um ciclo de degradação e destruição de todo o ecossistema Terra.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endo “capital ambiental” (ar, solo, água, vida e energia) essencial para vida humana e para a sobrevivência do sistema económico será obrigatório repensar os sistemas actuais e procurar medidas alternativas para assegurar o sucesso das gerações seguintes.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333300"/>
                </a:solidFill>
                <a:latin typeface="Arial"/>
              </a:rPr>
              <a:t>Efeitos negativos do crescimento e do desenvolvimento a nível ambi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34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sgotamento dos so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imitação dos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xcessivo consumo de matérias-primas não renováveis e exploração dos produtos primários cada vez mais escas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ncapacidade da tecnologia para equilibrar uma sociedade não sustentável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 que fazer para manter o equilíb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ensar o uso do “capital ambient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btar pela sustenta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Utilização de estratégias que procurem a manutenção dos recursos natu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gumas consequências do desenvolvimento e crescimento mund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iminuição das flore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umento das lixei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oluição atmosférica e da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Proliferação das cidades e do bet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sgotamento dos recursos não renov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Mudança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sequências do desenvolvimento na natur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4"/>
          <p:cNvGraphicFramePr/>
          <p:nvPr/>
        </p:nvGraphicFramePr>
        <p:xfrm>
          <a:off x="2411280" y="2349360"/>
          <a:ext cx="4172040" cy="43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349360"/>
                    <a:ext cx="417204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ausas humanas da mudança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recimento popul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resciment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udança tecn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uncionamento da economica mun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á gestão dos recursos natu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sgotamento dos recur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2556000" y="2205000"/>
          <a:ext cx="3959280" cy="38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205000"/>
                    <a:ext cx="395928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sgotamento dos recur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7"/>
          <p:cNvGraphicFramePr/>
          <p:nvPr/>
        </p:nvGraphicFramePr>
        <p:xfrm>
          <a:off x="1042920" y="1643040"/>
          <a:ext cx="698508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43040"/>
                    <a:ext cx="698508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s limites impostos pelo 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abuso e destruição dos recursos naturais do nosso planeta pela mão do homem podem contribuir a curto prazo para o esgotamento dos recursos não renováveis da Ter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endo estes desastres claramente provocados pela mão do Homem, será urgente criar e estabelecer limites para o uso e abuso destes recursos indispensáveis à sobrevivência da população mundial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8:28:14Z</dcterms:created>
  <dc:creator>Escola Secundária José Gomes Ferreira</dc:creator>
  <dc:description/>
  <dc:language>en-US</dc:language>
  <cp:lastModifiedBy>hp</cp:lastModifiedBy>
  <dcterms:modified xsi:type="dcterms:W3CDTF">2008-07-10T12:03:02Z</dcterms:modified>
  <cp:revision>6</cp:revision>
  <dc:subject/>
  <dc:title>O esgotamento dos recursos naturais como limite ao crescimento</dc:title>
</cp:coreProperties>
</file>